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1439-EB7D-4CFA-8C55-FB44220F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A1E7-DBC3-4E1A-BCCE-9AEF1FAF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D3CFB-165E-4A5B-B0C6-1B93EF8A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B0EBB-7334-4F61-9005-82820BD5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5427E-A184-4B95-979B-1AA54C3D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4EC24-06F8-4A88-8A08-98B9D5EB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2A612-A366-40F4-85FF-528FF410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57FDC-605F-4BE1-981E-10CD92CF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DE9AC-698C-4307-A700-73A2D07D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D213E-82FF-4421-B418-10B6BB64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D8F4D-E4AC-4133-B855-8C6FAF40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0DB22-00F4-40BF-B12C-08EC6D02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B9C6-6FDE-4384-8557-50F4BDA7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F3FCC-7F42-4EEA-A7E5-E940E97F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A3E5D-25B9-4954-9D7F-422EA124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FD892-DE7E-478B-B162-7207942C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AC9D5-85AB-44E8-B820-6D31E0DB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8D5FA-E82A-47CA-9658-72FB6347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BA6C1-EC30-4C2E-97EC-0F3A277F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91565-F9DB-4352-A62F-A6CB8DE9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CC337-7899-40F6-8989-72AB6836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9E429-2282-4506-AA7F-F811DBBA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AF0EF-202C-4A22-BE19-0B8A04F5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8DD5-C842-4306-9557-5F6061B6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C7DA8-1223-4196-A6B6-D68BEC9E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35A07-4A55-481C-B448-F6963F45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B2256-B95E-44B9-9A94-E681771B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058AF-3D5F-4FB7-8AED-58FD2267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79131-D533-4930-A8E4-E8C94F8E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9DBAC-DE1F-4526-AE68-57A9C6B2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282B5-A3F6-4143-BF1F-76AE6021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52FEE-B55A-4BF4-81F6-BB5A59D5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FDE26-30C3-47C5-AE32-5BC1896A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8E256-9B6A-4D74-B5F6-61FD80FC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DA54-94DC-4287-8AAF-1343F298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E32B5-EFCF-4D53-BF86-2D71BAF5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7F75A-547B-4BD3-A1AD-5F211C61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FC51D-66B8-41AA-86FF-39D19CE7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04C04-41E5-47F5-8C20-2805D760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7C41E-FCBF-41AE-B911-8AD0B9D7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696A9-0534-477A-AD60-BE6CA0C9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BE63A-4599-4D0E-9151-E51E9F70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3151E-6783-4A73-B305-AD5DCE28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2A42E-195A-40CA-9527-FEAFF4EB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742C7-8D2F-4928-AF1B-979911E1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0637-838F-46F3-9052-898AA83A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197F5-A8C4-4E7D-A479-A01ED35B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BDEDE-DADC-4B87-A8F1-27F72D28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670C9-8838-4451-B1A8-B06E059E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E345A-69DE-4077-8C47-4497C1BB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ACBEC-D673-48FC-BAC9-3168916A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8593FD-0BD6-45D5-B30C-FA83799C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3BAB0C-BC40-4168-AEE0-7D34217D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A6E83E-9AFE-444B-9F93-5F20B0CA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D9B29B-E128-40A4-ABA7-06ED624F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F5121-364A-430D-A7B2-C525BB7C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741C-DC7C-4C9E-95F2-B2A6335B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041E7-BA32-4E76-991D-4FDB4AD4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1C828F-EDC1-40AD-A51C-43F23C1D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B30533-62D1-4E5A-9DFB-0BBD4BCB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A6EDA2-044D-4822-AAAA-48F7873E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4DEF3-AEA4-48F5-B894-14AF471C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F8A847-86A4-4DE7-A6F3-F7A87979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078001-ED43-47AF-B283-D7B6B594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1A746D-85D4-40CB-881A-4B99918B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5FF23B-CEE9-4ECC-9032-51D13CEB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DC0E98-63D4-47C7-836F-2CDBD0F6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9E1B-AEBC-4208-97E8-DDA18F4E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EB9D45-E681-4783-8640-0A950B83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8DFC39-C1FD-4FE2-B827-F61D881A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C60CD5-A22C-4142-8820-7460DB66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6F3BB6-5EA2-4CC9-ABF7-C9DDB51C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3FC980-EEB2-41A9-9155-75F94F34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7A411A-051B-49EE-83D9-BA5DDF81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D1E118-4660-4CE8-9746-44CA10E9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9F0223-5FB0-4CD8-9D0C-B5D2A4EE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875CAB-DF6F-4FAB-8EBB-FCCC0E87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DFCF89-C054-4F0E-9706-F45F2538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7D7A-F0CA-4D90-A065-AFA3EAB0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022377-11E7-4B36-8213-116FE5B9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5319EE-C439-4FDE-8559-CEA9F8F4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F51620-7C6B-43F9-B1C9-F9739EB7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4E7377-F932-4BF4-B569-8871817F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114CB4-85EE-43B7-96EE-6116572F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3481A0-46C6-4684-93E2-02DDC47D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1CFC01-76EE-454D-95EB-433FD005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C879D1-C650-4B2E-9D1E-9CAD423F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DEAB80-A200-4E39-9C74-9820E099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7EB509-EE35-48FE-A13A-B6E7F45C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C56A-D9CF-4D09-A264-1304D2C5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75E115-CB6E-4C03-AA24-825A1660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F42564-A269-4D19-9E1E-6D858382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A5AD0D-F5F3-4F68-BD3C-2847A7E9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4C9E0E-07B8-45A5-BB93-479BFC18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6F7F01-CBD4-455B-9E91-FFB2D4A1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C507EB-8BA9-4C92-BCBC-7DE6796E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EDFCFC-E018-4E2D-857E-84E4B268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6F771B-768F-4C4C-82C5-BFE6CAEF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B31562-58BA-43AD-9F35-383F10CF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0130A0-A58D-4454-B29C-B7C4F958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EE19-4185-4BF5-99B0-B4725501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46D78C-5C94-482E-B3D9-147CB4F1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650B8F-0E3A-41D2-9720-F001A8DD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B40B22-E519-4B16-8C2B-09138E57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A3F060-AED8-47C7-842A-D183DA00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B20FE6-9D0B-4983-B7D3-D3BF23E4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07A7CC-60FC-4CC6-B3C9-AEFF18EA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C8244F-5F25-4339-BF6C-9453AACD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ED8517-072A-426B-8CC5-CFEF0A1A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C12454-E8EB-44B7-A348-BFB6F056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9DDB91-D2CB-435D-BC27-1D89DFAB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DFF-8D81-48B9-AD62-B0746DD1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6D27-3571-4F29-8437-F1197831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E1419F-A064-4DDE-85A9-E7AB9175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551FD8-D3C5-4F28-8469-D96AABAD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DEDCB7-2383-46B7-ABBE-7F81F68A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FD151B-29D6-4D96-95E6-D7B5653E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819314-688C-4E21-8BD3-FFF0F56A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789763-B6B5-4BCB-BD62-3378559C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97D288-6A36-4E04-884E-BA1DED1F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6A41D5-AD55-4752-B402-88B1BC31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3A1075-ADB6-43B7-B21C-86ED4233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B017CE-D643-473C-9222-6CED1573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2C60-4667-410B-8551-E13E78B3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D9AF10-8E3F-4A13-8046-D2EA6D66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A3A586-C428-4B9C-9EB8-D287C7FD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298F0B-D78A-47E0-A2E8-20277B53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8AF0F9-F95F-419C-AE1B-8F0E96B5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D5BCA7-F8BF-44F1-AC9A-134A9FC3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2CA957-3FB0-4A1D-BBC0-335AB45D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DC39C2-0AD7-41BE-BD08-9E54E8A3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BC2659-291A-4740-9DD5-B9F9EADB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7986C2-7E7C-4850-8D41-7C194B09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6B5A02-E08B-48EB-9DCC-1B5F5CF9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DC92-589B-43E9-A2B3-3BA9489C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FEF3AB-3840-4580-9CE9-5819A7C4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C85235-6F76-4021-B906-49D1152C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FE6F39-B2B2-4226-A720-FC784C3E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E0692D-D6BA-4D55-B51B-735942AC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A93606-7FC8-4326-B3E4-4BC38501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D29C3C-6D88-4923-81D4-A7DFD078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B48E19-6FB9-4BED-9E29-7FCEF77A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E0AC97-C113-4135-92B6-A29FD963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352F51-E40C-407A-96D9-6C5D6BFB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FC894D-2686-4F8E-A6A5-FB979817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FBA8-12BF-4BE7-9BB8-06134146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E572BB-2E68-48C9-B85F-712EABD1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277754-0C60-430F-B603-0A459936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E53941-CE65-4270-8071-BC07B29F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148510-B914-407B-8F5A-507AC81E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9263D8-C51A-41EF-9AE7-D971939D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56E61C-99BE-4D43-BC0A-4339000F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2BA63B-F32F-4799-B234-379ECBFC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F53B22-50D2-4074-9755-D7CE71A2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CF98DD-B8F1-4E36-BFD4-ABF1CE53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B9C3DD-AC4C-4CD4-A36B-699B2F76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C322-80C9-4E0E-9161-57C0CF2D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967D8D-E90C-4C17-B653-73FEE6F4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27FBCE-BDBE-4DDE-A952-B81A7BB4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EBDAA0-245D-4A03-82D7-123A594D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6ED925-83AE-464A-BF0F-5F317C29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498DC1-4427-44AC-A89A-479CAC39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67A38C-9A1C-4199-B32F-1FC71E12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E39E89-AA3E-43C9-8CF8-C78F866C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CD97CC-024B-498F-A1DE-D333956C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F746DE-197F-4CD8-ADEC-8CA851CF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7CE23F-150E-4994-B3C1-292A646A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99C6D-B6BC-4131-9E5B-BF10E5D1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0B6E21-8143-4932-9AFF-13A57213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CA5703-8201-44A4-AD17-8901D745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45E652-C06C-488F-A11A-07E9BF0D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973BC-2B18-433C-99A3-8F7F724E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D4F9B-4AD5-4E2F-A23E-D2181E73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283C6-5649-44AF-A7DC-5CEBA1B0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5D5E8-AAF8-4E15-8CE2-0EB28A55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717B-E51A-4C9D-9931-A0BC2E7B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0DF3D-F36B-4645-AFD2-C240FA9E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0F174-3763-41F0-974B-CFCE97C0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0571E-7F77-495C-854A-14C1AB3B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23286-16C7-484A-98C5-6FC97120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9C23F-1F15-43D1-B2A3-F6AD8C7A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37F49-73DD-45CB-BA40-5C729697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965DA-D828-495B-9109-EB24111A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70F17-EEC3-4FFA-A488-14481A72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1C806-2D6B-4A44-86A9-C1102B7D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855A4-2C7E-4BB2-A53F-3A670FB9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3CD-56B8-415B-B2E8-40AA353F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DF13D-53C0-4AE6-82EE-8CB13F7E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D8422-B717-4C0D-B7D7-1CDB2F59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22BBB-0408-4E85-A781-7879B3FE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54CCF-ECD1-4425-830F-B26742AF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07B30-7671-4070-B843-5E4D7DAF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13410-D31C-45D6-ACC2-AD03390F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9E618-3D5E-41EF-B778-D8DE0FF8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101F0-D3C3-4460-B627-C5C468CD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72FAA-D5B5-489F-B5C9-7E355181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F22CD-6791-40C2-BB43-7083CC3F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523E-6C9A-4724-B66F-B823F7BB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10E65-B32E-40E5-9564-6D3BBF50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04E86-6B9C-4399-9F66-508DD206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3EA97-7857-481A-B3D3-762E7366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46F71-1D58-49B8-82B0-3768B73A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CB13D-2FEA-4445-817B-E4DBF7FF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06A57-BE6E-47B1-9531-69438F20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A9598-DD99-44F2-848E-C86732D9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FD085-15CF-4F78-A413-F55B5AF6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A615F-05D0-4BC6-8F2B-ACE96DE9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29E6F-8D9C-45DE-9A0D-7DAC0132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873-9F34-4969-9733-A1EB1133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83950-566E-4676-822E-3389C5C1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A6569-D4C9-46A9-99AF-0AD9A0FB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98FEF-9AA1-4698-B7B0-172DAEBF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15BE5-F89B-4B76-9A2C-116A487C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94456-1F8D-4AF2-9325-CB98F316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8A23B-F8E2-473A-ABB8-FB359306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EECB4-89D1-41D7-A981-90AF2B4E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6A14F-93B6-4D1D-9EFE-E9CAAFB3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C156D-C196-4B69-B176-78C99CEE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FB160-2558-486C-89C8-CA00A8E9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F748-7A59-4499-B416-C7939FA9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3F03B-9E3E-4B60-993A-44AF10E7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A17E7-0CB1-4CBC-B700-CABB3B49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B7EFE-1895-47C3-AD07-8F3FB553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ACEE4-A07F-4BB5-AE71-6C880600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D7364-9724-43A5-A686-B7A1C315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B44EE-2977-4D67-B9EC-D4B19D0D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7A17B-54BF-4098-8718-C38FA331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B9621-A5E8-4FFB-82E7-D4CA30B0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2A60A-AC6A-4584-A26F-6592200D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E17D1-BE21-416B-8B70-97C9AC27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36DF-197C-4178-BB79-1C4F0694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4E9FC-AC43-4465-AA73-F3D6A668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AD8CB-498E-4802-9AD1-F7CB6699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6DC05-4705-4C74-9040-EC650E0A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6235F-77B9-40F8-A740-7CBAE996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2FA53-A155-4C7C-B351-28F0EE75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84957-0DA7-4160-A0BD-DB138A59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DEB12-16F7-4BD2-95C3-57F595CD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D900B-92DF-40F4-980B-B642192A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70888-5579-4848-8AE0-30DC8866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67222-50CD-46B1-B5D4-88E53E2B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5EB6-337C-41F7-8599-B143C8B3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70FEA-2D83-4481-A97C-D26517F9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72C88-CC09-41D6-9C54-4CAF34DE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51E12-F052-4F02-9BAB-30AF3D1D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86C63-139E-4A4B-A6D5-8E89E609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E7B6F-9168-4ED4-A3C2-44E6D9E5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B2703-074D-42D8-9B0D-3F91F38D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27AED-11D1-4B11-8DA6-575EA034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9B073-AB01-4067-802C-C6DF1104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6EDC4-6EBB-4331-BB60-818CF1FD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047C6-6978-4AB3-ABB1-EE23D576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C004-69E8-4089-9372-CD8305F3E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8C8F-104D-4209-9055-FD4F7D4D60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F48D-23E3-4B79-9377-A499A11B01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8A1D-25B9-41DC-B188-91679CC722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708A-37F8-4758-BD75-D065CD7882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1089-5289-47C3-9797-D0DE67D5DA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072B-5A2C-4395-81B6-E9B11A326D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60C4-39BE-4C2B-95B6-D5820A78ED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9CD7-94C2-4AC5-8C3E-414A170A36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54D5-0307-4A78-BAF4-A6B00AF933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6D42-A7F1-4E95-9382-2FB10C5C1F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2132-6E06-4440-8F9B-FC1BAB23ED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81BF-3E60-41C4-BB3C-49405D9A9B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3010-1614-4FF6-ABBE-006C066B03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ECC6-278E-49E4-8CD5-E67EF917CB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55AD-2EA7-4963-96ED-B01ABC5626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0905-67BF-4031-8639-E803F06F6D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B6EF-025F-498E-A2F9-990C4B3EC9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B5BD-23D8-477F-83EC-263C1B16C6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E023-B01B-4C3D-92E4-5468AD5F40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7614-C51F-48D4-BDEA-93D7103AB8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5DFA-0678-4EC1-9977-DC967414DA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E3C3-9E5E-4D1E-A48C-EC4D44B7E2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4A18-DB63-44C0-9702-221A93B113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CAFD-D986-4668-9CF1-ACCA957703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A3C3-A3B6-4B63-9C07-D9D295CFC8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774D-8511-4C0D-9346-EC41005625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64D7-2BAF-4E7B-ACF3-CB50E233E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1DE4-9E26-44D1-B566-81602B5BEA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7656-8A2F-4529-8821-AC89A5B097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2E42-C3C1-4964-AD94-A47766D349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3FB2-3E5A-460A-8DDF-588D6FFCD6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2184-6BDE-4D12-BBB9-0174AF8229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D754-D3C1-45DD-88C8-E74EAF0524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25A7-F2BA-422B-B12B-A164E88B2D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F055-365B-4F79-823F-62AC998A00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5C8C-824E-4A1F-942D-20A3325B77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6BA3-758C-4835-A28A-58314F4733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ED17-9709-4C1B-B7DD-9C32EE2DAA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88F0-4656-429A-9B64-CD0469CCD7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138320" y="3005280"/>
            <a:ext cx="686736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3" name="Picture 2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15200" cy="289584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6" descr=""/>
          <p:cNvPicPr/>
          <p:nvPr/>
        </p:nvPicPr>
        <p:blipFill>
          <a:blip r:embed="rId2"/>
          <a:stretch/>
        </p:blipFill>
        <p:spPr>
          <a:xfrm>
            <a:off x="3643200" y="1857240"/>
            <a:ext cx="23338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705440" cy="49723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428840" y="2214720"/>
            <a:ext cx="685800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1004760" y="1424160"/>
            <a:ext cx="7134480" cy="40096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2"/>
          <a:stretch/>
        </p:blipFill>
        <p:spPr>
          <a:xfrm>
            <a:off x="1038240" y="1471680"/>
            <a:ext cx="706752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539640" y="803160"/>
            <a:ext cx="8067960" cy="60105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2"/>
          <a:stretch/>
        </p:blipFill>
        <p:spPr>
          <a:xfrm>
            <a:off x="1692360" y="299736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3"/>
          <a:stretch/>
        </p:blipFill>
        <p:spPr>
          <a:xfrm>
            <a:off x="1692360" y="44308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4"/>
          <a:stretch/>
        </p:blipFill>
        <p:spPr>
          <a:xfrm>
            <a:off x="1763640" y="587052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Picture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58000" cy="41148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2"/>
          <a:stretch/>
        </p:blipFill>
        <p:spPr>
          <a:xfrm>
            <a:off x="1619280" y="17668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3"/>
          <a:stretch/>
        </p:blipFill>
        <p:spPr>
          <a:xfrm>
            <a:off x="1692360" y="314172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4"/>
          <a:stretch/>
        </p:blipFill>
        <p:spPr>
          <a:xfrm>
            <a:off x="1692360" y="464652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755640" y="824040"/>
            <a:ext cx="7734240" cy="2438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2" descr=""/>
          <p:cNvPicPr/>
          <p:nvPr/>
        </p:nvPicPr>
        <p:blipFill>
          <a:blip r:embed="rId2"/>
          <a:stretch/>
        </p:blipFill>
        <p:spPr>
          <a:xfrm>
            <a:off x="1459080" y="3560760"/>
            <a:ext cx="6352920" cy="31813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3"/>
          <a:stretch/>
        </p:blipFill>
        <p:spPr>
          <a:xfrm>
            <a:off x="1908000" y="184464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4"/>
          <a:stretch/>
        </p:blipFill>
        <p:spPr>
          <a:xfrm>
            <a:off x="1908000" y="270360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5"/>
          <a:stretch/>
        </p:blipFill>
        <p:spPr>
          <a:xfrm>
            <a:off x="1908000" y="363852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6"/>
          <a:stretch/>
        </p:blipFill>
        <p:spPr>
          <a:xfrm>
            <a:off x="1908000" y="537372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509760" y="892080"/>
            <a:ext cx="8124480" cy="57056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2"/>
          <a:stretch/>
        </p:blipFill>
        <p:spPr>
          <a:xfrm>
            <a:off x="2050920" y="6041880"/>
            <a:ext cx="1441440" cy="438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3"/>
          <a:stretch/>
        </p:blipFill>
        <p:spPr>
          <a:xfrm>
            <a:off x="4140360" y="6041880"/>
            <a:ext cx="1439640" cy="438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"/>
          <p:cNvPicPr/>
          <p:nvPr/>
        </p:nvPicPr>
        <p:blipFill>
          <a:blip r:embed="rId4"/>
          <a:stretch/>
        </p:blipFill>
        <p:spPr>
          <a:xfrm>
            <a:off x="6516720" y="6041880"/>
            <a:ext cx="1440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Picture 2" descr=""/>
          <p:cNvPicPr/>
          <p:nvPr/>
        </p:nvPicPr>
        <p:blipFill>
          <a:blip r:embed="rId1"/>
          <a:stretch/>
        </p:blipFill>
        <p:spPr>
          <a:xfrm>
            <a:off x="414360" y="1176480"/>
            <a:ext cx="8315280" cy="45050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2"/>
          <a:stretch/>
        </p:blipFill>
        <p:spPr>
          <a:xfrm>
            <a:off x="1979640" y="2060640"/>
            <a:ext cx="1440000" cy="4381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"/>
          <p:cNvPicPr/>
          <p:nvPr/>
        </p:nvPicPr>
        <p:blipFill>
          <a:blip r:embed="rId3"/>
          <a:stretch/>
        </p:blipFill>
        <p:spPr>
          <a:xfrm>
            <a:off x="4067280" y="2060640"/>
            <a:ext cx="1441440" cy="4381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4"/>
          <a:stretch/>
        </p:blipFill>
        <p:spPr>
          <a:xfrm>
            <a:off x="6443640" y="2060640"/>
            <a:ext cx="1441440" cy="438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6" descr=""/>
          <p:cNvPicPr/>
          <p:nvPr/>
        </p:nvPicPr>
        <p:blipFill>
          <a:blip r:embed="rId5"/>
          <a:stretch/>
        </p:blipFill>
        <p:spPr>
          <a:xfrm>
            <a:off x="3571920" y="3857760"/>
            <a:ext cx="233352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Picture 1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724520" cy="48387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6" descr=""/>
          <p:cNvPicPr/>
          <p:nvPr/>
        </p:nvPicPr>
        <p:blipFill>
          <a:blip r:embed="rId2"/>
          <a:stretch/>
        </p:blipFill>
        <p:spPr>
          <a:xfrm>
            <a:off x="3605040" y="1285920"/>
            <a:ext cx="2333880" cy="9525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6" descr=""/>
          <p:cNvPicPr/>
          <p:nvPr/>
        </p:nvPicPr>
        <p:blipFill>
          <a:blip r:embed="rId3"/>
          <a:stretch/>
        </p:blipFill>
        <p:spPr>
          <a:xfrm>
            <a:off x="2379600" y="4094280"/>
            <a:ext cx="23335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1:1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